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172-B893-4F53-A6F1-E5D8253D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E63-892D-4B68-B17F-8AC130AB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C42-4A79-42B9-A567-8F21CB1A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7B1-64FF-4255-BB9B-40A6FE05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5CE3-CC0C-4230-AAEA-C5AC4D8B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FC4-ADD9-430D-BAA2-A3C731C4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1D8-DFCA-4816-8332-B312A443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CC5-A515-47FF-AD7D-49D27918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4A7-BAE6-41CA-9714-14258B46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A57-66B2-44B9-896A-9E93012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932-D5E0-40FC-A951-6541DA93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7629-96AB-4A69-A312-0E399C44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D682-CBB2-4755-B161-F3B3D5B2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P_Owner/My%20Documents/SHINY%20BOOTS.doc" TargetMode="External"/><Relationship Id="rId2" Type="http://schemas.openxmlformats.org/officeDocument/2006/relationships/hyperlink" Target="file:///C:/Documents%20and%20Settings/HP_Owner/My%20Documents/SHINY%20BOOTS.doc" TargetMode="External"/><Relationship Id="rId3" Type="http://schemas.openxmlformats.org/officeDocument/2006/relationships/hyperlink" Target="file:///C:/Documents%20and%20Settings/HP_Owner/My%20Documents/skateboardingslideshow.ppt" TargetMode="External"/><Relationship Id="rId4" Type="http://schemas.openxmlformats.org/officeDocument/2006/relationships/hyperlink" Target="file:///C:/Documents%20and%20Settings/HP_Owner/My%20Documents/On%20Being%20Prepared.doc" TargetMode="External"/><Relationship Id="rId5" Type="http://schemas.openxmlformats.org/officeDocument/2006/relationships/hyperlink" Target="file:///C:/Documents%20and%20Settings/HP_Owner/My%20Documents/The%20Penguin.doc" TargetMode="External"/><Relationship Id="rId6" Type="http://schemas.openxmlformats.org/officeDocument/2006/relationships/hyperlink" Target="file:///C:/Documents%20and%20Settings/HP_Owner/My%20Documents/Snowboarding.doc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HP_Owner/My%20Documents/Improv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4572000"/>
            <a:ext cx="76201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ngravers MT"/>
              </a:rPr>
              <a:t>By: James Sp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ngravers MT"/>
              </a:rPr>
              <a:t>The T is si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3720" y="1752480"/>
            <a:ext cx="44719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y Portfoli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Mistral"/>
              </a:rPr>
              <a:t>Annotated 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85800"/>
            <a:ext cx="853416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iny Boots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a short story I wrote about some boots. It is a deep portrayal of confidence and self righteousnes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kateboard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ultimedia presentation. It is a poem written about the joys and pains that are skateboa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n Being Prepar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ersonal essay based around the idea of preparedness causing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he Pengu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em chronicling the epic journey of a penguin back to his eggs. It explains the many trials and tribulations of one of the earth’s most beautiful creatures, the pengu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nowboard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oem of a magnitude so great it can not be explained in words. It’s also about snowboar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ir Pie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a piece written about a past event in my grandfather’s lif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Mistral"/>
              </a:rPr>
              <a:t>Annotated Table of Contents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1532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mprov. #6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short improvisational poem about d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. #2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nother short improvisational poem in which we practiced the use of nonsense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. Ag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hort improvisational story. It was required to include all of the given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Matisse ITC"/>
              </a:rPr>
              <a:t>Creative Writing and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990720"/>
            <a:ext cx="8076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Hello world, I am James Spence. I am in this creative writing class because I felt it would help spurn along my ability to convey messages through the medium of literature. Through participating in this course I have come to understand the many errors I was making in my writings and have successfully overcome many of these difficulties. I believe that if one day I so choose to write a chronicle of my adventures, the many suggestions I have received from my peers shall be put to great use. Hopefully creative writing will help me to spark new creativity so that I may flourish and truly come in to my own as a writer, and a young adult. This class has been inexplicably helpful and informative and I would like to thank every single person that made it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20:42:36Z</dcterms:created>
  <dc:creator>spence</dc:creator>
  <dc:description/>
  <dc:language>en-US</dc:language>
  <cp:lastModifiedBy>spence</cp:lastModifiedBy>
  <dcterms:modified xsi:type="dcterms:W3CDTF">2008-06-10T01:00:26Z</dcterms:modified>
  <cp:revision>4</cp:revision>
  <dc:subject/>
  <dc:title>Slide 1</dc:title>
</cp:coreProperties>
</file>